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3.png" ContentType="image/png"/>
  <Override PartName="/ppt/media/image22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13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30.png" ContentType="image/png"/>
  <Override PartName="/ppt/media/image5.png" ContentType="image/png"/>
  <Override PartName="/ppt/media/image11.png" ContentType="image/png"/>
  <Override PartName="/ppt/media/image9.png" ContentType="image/png"/>
  <Override PartName="/ppt/media/image34.png" ContentType="image/png"/>
  <Override PartName="/ppt/media/image12.png" ContentType="image/png"/>
  <Override PartName="/ppt/media/image32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F916-A6B0-4415-8823-5D72EAF7D3B3}" type="slidenum">
              <a:rPr b="0" lang="es-C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E22D-E9DA-485B-8AA6-7EC81737069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9AAA-F0D2-4B8F-80A3-9A9F8546875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AE90-9D68-4562-8792-6CA0C6D9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80C9-6295-4C06-9E0D-B8C871C5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F6167-5FAF-4109-A852-13671640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55A1F-A2DA-4023-B386-B1780222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00773-0C9E-40D9-9B0E-379F928E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60B9C-F4E1-4FCD-B9C2-BF5B70A5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2FDE4-BE0E-4598-BC9C-9E526852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2DC6D-C61B-4E3B-9BC5-75D28230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03F09-E0B8-42FF-9C69-0C186A90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76B87-CB4D-43CF-9052-44B428B6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49DAA-C9C4-4D8B-AAED-280E9124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A6E6-81D3-4842-BCCD-203E651B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DFBD-C494-4F56-B362-E6DBCF56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95FC-3CA5-4B81-B970-3ED53FD0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9A7F-871A-448F-973A-FC788947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E30D-0520-48C6-882F-3369F558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DC94-758A-43B1-BB64-F4BF5991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8295-F762-4DD5-945B-7E419332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CC79-0DE8-43D5-9EA4-485D6ABF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A271-63B5-4135-AF13-2BBB8368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9434-17B9-4B1D-911E-0D8F5A45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0B6F-DFDB-404B-BF5F-A5630265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AA71-22F6-4377-B451-796DDA17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2638-7BCA-4227-8577-5D2542EC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7DC8-79ED-4A6C-820E-54DBCDD9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E860-E0CD-4359-861E-769FF1F73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BB8E2-F17A-4B4E-AFA1-0F969A75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21107-18E1-4C6B-947A-0B352F2A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F62CC-4D3D-4404-875E-9E025C78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D36A9-0F2E-46A9-BB12-F8F3EE0E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2799F-B7D8-4784-98F1-05CC4F43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3A0E-D91F-44C3-9574-DA222580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F7468-38E6-41C3-838D-D447DB9F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6D073-F136-4B3B-9403-78548DE9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5F5F5-091B-487A-83B6-80D183E0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E6BB1-A9E6-48B9-BB2F-2A500286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0EFFF-873A-4C82-9184-99F510BF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1DDC3-D830-4085-B5B9-CA74BA61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54A56-9C3E-4F8A-A5F0-DAD8B87D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F4033-FE48-4526-868C-B51697CA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1FA82-811F-4EA0-81E9-04B607A0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8CAAE-BF69-44B5-93A0-409FEB79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DA7-5FEC-489F-84B5-ECC7A142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503BE-16C7-40D7-93C6-E7F95222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71FD0-89F6-441F-8EAA-F38397D8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8F4F7-5976-4150-9E86-D476AA02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DEC26-65CC-4911-A409-DBA46AD2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B24B2-5ABA-46F3-9992-2EB8B6BB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F678D-4279-4A6B-92FE-D10E2CD0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7639E-7130-438B-9A1E-DA8AB34C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25EE2-98A0-4AE3-B3D8-364E37A6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28CF1-F31F-4281-A064-CE4A7809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659C1-92AC-4908-80FB-1DC6EBB6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9209-2F4B-4F75-B877-749B2762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D3659-EE80-466D-B64E-AEC00259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3ED65-46E1-4684-8356-24F416AE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6BF8C-7A1B-4A24-88AC-DD979C03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08EC1-826D-4950-B8DB-8BB62730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FDABB-BF02-426D-BD94-E59D7FA5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CB357-BAAC-40B5-8FBA-AF516BA3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947CB-1B76-4249-9A52-C2B04ECA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C594C-1F65-4883-A9DE-6C1D8718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F1120-2C11-46F4-A2F1-A0BB7443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D36EC-09DF-4DF5-BAFF-D4226C6D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815D-BF86-418B-AE25-E06BCD2C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F28E3-2422-4524-A92A-AD1CDA1C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718C3-AE0C-4E49-A2CE-54254B6B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5D223-8F40-4F1D-A22F-0D70F7C7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5A6DF-AA4A-4CFA-93B5-B570478E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70131-50F5-422C-AEF2-CAD20A02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75B63-F487-4521-80B4-CCC6258E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C03AE-3A2A-4373-8C80-441A5E8C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AC57A-41C3-4447-BF07-1BEC742E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EA48B-8D77-43FC-91C1-455C28C1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211DE-47F1-48DD-AFE0-339B82B8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2B57-93AE-4527-A2FC-1BC3268B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68483-9687-4695-B51D-9D508DE0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0EBBE-9862-40A3-AB72-A35B3DA6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196B4-3404-475A-A3D0-98C063A6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109BA-C475-4A0C-8A18-C26B94A8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067E4-C761-443A-A5D0-5A7C4F1C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894B0-999F-4C9F-934B-28DD6278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5F4AB-8C0F-45B3-BAD5-025E0217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97E46-2F72-42EA-A496-56B7C701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F62A6-688D-4CBF-9807-1F5207CB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D8EB9-1A94-4EEA-B8FB-77EFE8E0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AA01-715C-4BFD-8E59-D9A94748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54E7D-CB80-418D-9BB9-2ED83629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A1A6B-0BA5-43EA-8D79-23547461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494DA-C847-4E73-A7C8-19CADD29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E5398-BFBF-4450-8407-C9AF988B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4DBF2-6561-4D4E-8B45-829C00D6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46DF3-898C-4210-9B57-189BC7CE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4CEA4-13E3-4E37-B38D-40A1F5BA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5E435-86F6-4EC1-B87E-266F9011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CB34A-A726-4335-8EB0-2C23A758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7C2D6-4396-41C5-AADA-6C3C8A27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C938-68C5-438A-99D3-8F63BD1E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2756D-68AD-4F71-92F3-CE297195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72222-1D1F-4469-9BE4-385C2FBE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81D2A-5D23-4197-AA2F-67C4075A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EA60E-C2CE-4EF5-88C4-C4E6EF23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47388-1478-49A2-8030-5A3C5452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A6584-2326-4735-A8AA-293B280B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2DE23-C580-44C8-8E43-8B4D11C0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97265-6637-4999-9BFA-5755EBCC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208E5-FE55-4D5B-93C7-79893690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D00BB-C558-4F54-ADE4-03B6A44D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052E-069A-45F5-8325-E8E2C1E60914}" type="slidenum">
              <a:rPr b="0" lang="es-E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ctángulo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7 Rectángulo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9 Conector recto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E5A4-90BB-48A5-9564-181A7C6F9DFC}" type="slidenum">
              <a:rPr b="0" lang="es-E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969E-26AA-427F-87F0-0E7C05CF4E4E}" type="slidenum">
              <a:rPr b="0" lang="es-E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Rectángulo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28F8-F8AA-4FC8-A475-947A075DCB5D}" type="slidenum">
              <a:rPr b="0" lang="es-E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0AB7-2C36-474A-AEC0-C2AC6A998E27}" type="slidenum">
              <a:rPr b="0" lang="es-E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C008-147D-4E0D-977A-FF1CF769A041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65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D082-C73A-4AFF-ABA5-6A27F7BBD97A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09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776A-2F5C-4E8C-B354-42A9380C5609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53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6A4B-0CB3-408E-8AB4-DACC4504CB6F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212760" y="2511360"/>
            <a:ext cx="8480520" cy="1395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so"/>
          <p:cNvPicPr/>
          <p:nvPr/>
        </p:nvPicPr>
        <p:blipFill>
          <a:blip r:embed="rId2"/>
          <a:stretch/>
        </p:blipFill>
        <p:spPr>
          <a:xfrm>
            <a:off x="1332000" y="5157720"/>
            <a:ext cx="4392360" cy="809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s01"/>
          <p:cNvPicPr/>
          <p:nvPr/>
        </p:nvPicPr>
        <p:blipFill>
          <a:blip r:embed="rId3"/>
          <a:stretch/>
        </p:blipFill>
        <p:spPr>
          <a:xfrm>
            <a:off x="5796000" y="5157720"/>
            <a:ext cx="1297080" cy="809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so02"/>
          <p:cNvPicPr/>
          <p:nvPr/>
        </p:nvPicPr>
        <p:blipFill>
          <a:blip r:embed="rId4"/>
          <a:stretch/>
        </p:blipFill>
        <p:spPr>
          <a:xfrm>
            <a:off x="7164360" y="5013360"/>
            <a:ext cx="12002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457200" y="1904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Administración de Memoria Princip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Para que un programa se ejecute, debe de estar mapeado en direcciones absolutas y cargado a memori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El sistema operativo es el responsable d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Mantener registro de cuales partes de la memoria están actualmente siendo utilizadas y por qui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Decidir cuales procesos están cargados en memoria cuando el espacio de memoria está disponibl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Ubicar y desalojar los espacios de memoria necesari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Administración de Archiv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Es uno de los componentes más visibl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El sistema operativo provee de una vista lógica uniforme  del almacenamiento de la informació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El sistema operativo  abstrae de las propiedades físicas de los dispositivos de almacenamiento para definir una unidad de almacenamiento lógico el “archivo”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El sistema operativo mapea los archivos a los medios físicos y los accede via los dispositivos de almacenamiento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Administración de Archiv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Un archivo es una colección de información relacionada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Los archivos se organizan  dentro de directorio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Debe de controlarse de quien es el archivo y quienes tienen derecho a utilizarlo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457200" y="19051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Administración de Archiv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El sistema operativo es responsable d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Crear y eliminar archiv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Crear y eliminar directori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Soportar primitivas para manipular archivos y directori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Mapear los archivos a almacenamientos secundari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Respaldo de archivos en medios de almacenamiento estab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Administración del sistema de E/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Uno de los propósitos de un sistema operativo es ocultar al usuario las peculiaridades específicas de los dispositivos de hardware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El subsistema de entrada y salida consiste d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Administración de memoria incluyendo buffering, cacheo y spool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Interfaz general para los drivers de dispositiv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Drivers para dispositivos específicos de hardwar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Administración del sistema de  E/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Solamente el driver del dispositivo conoce las peculiaridades del dispositivo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Administración de almacenamiento secundari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Los programas deben de cargarse a memoria desde dispositivos de almacenamiento secundario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El sistema operativo es el responsable d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Administrar el espacio libr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Ubicación del almacenamient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Planificación del disc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Red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Un sistema distribuido es una colección de procesos que no comparten memoria, dispositivos periféricos o reloj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Cada procesador tiene su propia memoria y reloj  local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Los procesadores se comunican entre sí a través de varias líneas de comunicació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450" name="Picture 4" descr="so"/>
          <p:cNvPicPr/>
          <p:nvPr/>
        </p:nvPicPr>
        <p:blipFill>
          <a:blip r:embed="rId2"/>
          <a:stretch/>
        </p:blipFill>
        <p:spPr>
          <a:xfrm>
            <a:off x="1332000" y="5734080"/>
            <a:ext cx="4392360" cy="809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s01"/>
          <p:cNvPicPr/>
          <p:nvPr/>
        </p:nvPicPr>
        <p:blipFill>
          <a:blip r:embed="rId3"/>
          <a:stretch/>
        </p:blipFill>
        <p:spPr>
          <a:xfrm>
            <a:off x="5796000" y="5734080"/>
            <a:ext cx="1297080" cy="8096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so02"/>
          <p:cNvPicPr/>
          <p:nvPr/>
        </p:nvPicPr>
        <p:blipFill>
          <a:blip r:embed="rId4"/>
          <a:stretch/>
        </p:blipFill>
        <p:spPr>
          <a:xfrm>
            <a:off x="7164360" y="5589720"/>
            <a:ext cx="120024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Red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Los procesadores en el sistema están conectados a través de redes de comunicació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El sistema operativo usualmente generaliza el acceso a la red como un acceso a un archivo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Protección del Sistem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En sistemas donde se ejecutan varios procesos a la vez y varios usuarios se conectan, se deben de proveer mecanismos de protección de procesos y sus propias actividad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La protección se refiere al mecanismo para controlar el acceso de programas, procesos, o usuarios a los recursos del sistem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457" name="Picture 4" descr="so"/>
          <p:cNvPicPr/>
          <p:nvPr/>
        </p:nvPicPr>
        <p:blipFill>
          <a:blip r:embed="rId2"/>
          <a:stretch/>
        </p:blipFill>
        <p:spPr>
          <a:xfrm>
            <a:off x="1332000" y="5734080"/>
            <a:ext cx="4392360" cy="8096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5" descr="s01"/>
          <p:cNvPicPr/>
          <p:nvPr/>
        </p:nvPicPr>
        <p:blipFill>
          <a:blip r:embed="rId3"/>
          <a:stretch/>
        </p:blipFill>
        <p:spPr>
          <a:xfrm>
            <a:off x="5796000" y="5734080"/>
            <a:ext cx="1297080" cy="8096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6" descr="so02"/>
          <p:cNvPicPr/>
          <p:nvPr/>
        </p:nvPicPr>
        <p:blipFill>
          <a:blip r:embed="rId4"/>
          <a:stretch/>
        </p:blipFill>
        <p:spPr>
          <a:xfrm>
            <a:off x="7164360" y="5589720"/>
            <a:ext cx="120024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195120" y="2816280"/>
            <a:ext cx="84981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Protección del sistem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El mecanismo debe de proveer maneras de especificar los controles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Sistema de intérpretes de comand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Es la interfaz entre  el usuario y el sistema operativo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Algunos sistemas operativos incluyen el intérprete en el núcleo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Otros lo tratan como un programa que se ejecuta cuando una tarea es inicializada o cuando un usuario ingresa en caso de un sistema de tiempo compartido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464" name="Picture 4" descr="so"/>
          <p:cNvPicPr/>
          <p:nvPr/>
        </p:nvPicPr>
        <p:blipFill>
          <a:blip r:embed="rId2"/>
          <a:stretch/>
        </p:blipFill>
        <p:spPr>
          <a:xfrm>
            <a:off x="1332000" y="5734080"/>
            <a:ext cx="4392360" cy="8096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s01"/>
          <p:cNvPicPr/>
          <p:nvPr/>
        </p:nvPicPr>
        <p:blipFill>
          <a:blip r:embed="rId3"/>
          <a:stretch/>
        </p:blipFill>
        <p:spPr>
          <a:xfrm>
            <a:off x="5796000" y="5734080"/>
            <a:ext cx="1297080" cy="8096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6" descr="so02"/>
          <p:cNvPicPr/>
          <p:nvPr/>
        </p:nvPicPr>
        <p:blipFill>
          <a:blip r:embed="rId4"/>
          <a:stretch/>
        </p:blipFill>
        <p:spPr>
          <a:xfrm>
            <a:off x="7164360" y="5589720"/>
            <a:ext cx="120024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Sistema de intérprete de comand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rebuchet MS"/>
              </a:rPr>
              <a:t>Ejecución de programa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rebuchet MS"/>
              </a:rPr>
              <a:t>Operaciones de Entrada y Salid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rebuchet MS"/>
              </a:rPr>
              <a:t>Manipulación del sistema de archivo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rebuchet MS"/>
              </a:rPr>
              <a:t>Comunicació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rebuchet MS"/>
              </a:rPr>
              <a:t>Detección de error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rebuchet MS"/>
              </a:rPr>
              <a:t>Ubicación de recurso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rebuchet MS"/>
              </a:rPr>
              <a:t>Contabilidad de recurso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rebuchet MS"/>
              </a:rPr>
              <a:t>Protecció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71" name="Picture 4" descr="so"/>
          <p:cNvPicPr/>
          <p:nvPr/>
        </p:nvPicPr>
        <p:blipFill>
          <a:blip r:embed="rId2"/>
          <a:stretch/>
        </p:blipFill>
        <p:spPr>
          <a:xfrm>
            <a:off x="1332000" y="5805360"/>
            <a:ext cx="4392360" cy="8096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s01"/>
          <p:cNvPicPr/>
          <p:nvPr/>
        </p:nvPicPr>
        <p:blipFill>
          <a:blip r:embed="rId3"/>
          <a:stretch/>
        </p:blipFill>
        <p:spPr>
          <a:xfrm>
            <a:off x="5796000" y="5805360"/>
            <a:ext cx="1297080" cy="8096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so02"/>
          <p:cNvPicPr/>
          <p:nvPr/>
        </p:nvPicPr>
        <p:blipFill>
          <a:blip r:embed="rId4"/>
          <a:stretch/>
        </p:blipFill>
        <p:spPr>
          <a:xfrm>
            <a:off x="7164360" y="5661000"/>
            <a:ext cx="12002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Rectangle 2" descr=""/>
          <p:cNvPicPr/>
          <p:nvPr/>
        </p:nvPicPr>
        <p:blipFill>
          <a:blip r:embed="rId1"/>
          <a:stretch/>
        </p:blipFill>
        <p:spPr>
          <a:xfrm>
            <a:off x="-103320" y="146160"/>
            <a:ext cx="8570880" cy="9144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7677000" cy="4991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Rectangle 2" descr=""/>
          <p:cNvPicPr/>
          <p:nvPr/>
        </p:nvPicPr>
        <p:blipFill>
          <a:blip r:embed="rId1"/>
          <a:stretch/>
        </p:blipFill>
        <p:spPr>
          <a:xfrm>
            <a:off x="-103320" y="146160"/>
            <a:ext cx="8570880" cy="9144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" descr=""/>
          <p:cNvPicPr/>
          <p:nvPr/>
        </p:nvPicPr>
        <p:blipFill>
          <a:blip r:embed="rId2"/>
          <a:stretch/>
        </p:blipFill>
        <p:spPr>
          <a:xfrm>
            <a:off x="2481120" y="1066680"/>
            <a:ext cx="4376880" cy="5639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Rectangle 2" descr=""/>
          <p:cNvPicPr/>
          <p:nvPr/>
        </p:nvPicPr>
        <p:blipFill>
          <a:blip r:embed="rId1"/>
          <a:stretch/>
        </p:blipFill>
        <p:spPr>
          <a:xfrm>
            <a:off x="-103320" y="146160"/>
            <a:ext cx="8570880" cy="9144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8382240" cy="4753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-103320" y="146160"/>
            <a:ext cx="8570880" cy="9144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5" descr=""/>
          <p:cNvPicPr/>
          <p:nvPr/>
        </p:nvPicPr>
        <p:blipFill>
          <a:blip r:embed="rId2"/>
          <a:stretch/>
        </p:blipFill>
        <p:spPr>
          <a:xfrm>
            <a:off x="609480" y="1096920"/>
            <a:ext cx="7772400" cy="558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AutoShape 2" descr=""/>
          <p:cNvPicPr/>
          <p:nvPr/>
        </p:nvPicPr>
        <p:blipFill>
          <a:blip r:embed="rId1"/>
          <a:stretch/>
        </p:blipFill>
        <p:spPr>
          <a:xfrm>
            <a:off x="3309840" y="530280"/>
            <a:ext cx="5602320" cy="287820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rebuchet MS"/>
              </a:rPr>
              <a:t>Historia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rebuchet MS"/>
              </a:rPr>
              <a:t>Estructura del MS-DOS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rebuchet MS"/>
              </a:rPr>
              <a:t>Directorios y Archivos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rebuchet MS"/>
              </a:rPr>
              <a:t>Comandos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rebuchet MS"/>
              </a:rPr>
              <a:t>Organización de la Memoria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rebuchet MS"/>
              </a:rPr>
              <a:t>Configurar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rebuchet MS"/>
              </a:rPr>
              <a:t>Instalación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84" name="Picture 4" descr="msdos6"/>
          <p:cNvPicPr/>
          <p:nvPr/>
        </p:nvPicPr>
        <p:blipFill>
          <a:blip r:embed="rId2"/>
          <a:stretch/>
        </p:blipFill>
        <p:spPr>
          <a:xfrm>
            <a:off x="838080" y="3352680"/>
            <a:ext cx="20955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AutoShape 2" descr=""/>
          <p:cNvPicPr/>
          <p:nvPr/>
        </p:nvPicPr>
        <p:blipFill>
          <a:blip r:embed="rId1"/>
          <a:stretch/>
        </p:blipFill>
        <p:spPr>
          <a:xfrm>
            <a:off x="517680" y="755640"/>
            <a:ext cx="8175600" cy="115884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6172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n 1981Microsoft compra los derechos de un sistema operativo llamado QDOS. Lo llama MS-DOS 1.0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IBM saca su versión llamada  PC-D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Microsoft produce varias version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rebuchet MS"/>
              </a:rPr>
              <a:t>Administración de Proceso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rebuchet MS"/>
              </a:rPr>
              <a:t>Administración de Memoria Principa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rebuchet MS"/>
              </a:rPr>
              <a:t>Administración de Archivo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rebuchet MS"/>
              </a:rPr>
              <a:t>Administración del sistema de Entrada y Salid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rebuchet MS"/>
              </a:rPr>
              <a:t>Administración de Almacenamiento Secundari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rebuchet MS"/>
              </a:rPr>
              <a:t>Red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rebuchet MS"/>
              </a:rPr>
              <a:t>Protección de Sistem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rebuchet MS"/>
              </a:rPr>
              <a:t>Sistema de interpretes de comando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10" name="Picture 4" descr="so"/>
          <p:cNvPicPr/>
          <p:nvPr/>
        </p:nvPicPr>
        <p:blipFill>
          <a:blip r:embed="rId2"/>
          <a:stretch/>
        </p:blipFill>
        <p:spPr>
          <a:xfrm>
            <a:off x="1332000" y="6048360"/>
            <a:ext cx="4392360" cy="8096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s01"/>
          <p:cNvPicPr/>
          <p:nvPr/>
        </p:nvPicPr>
        <p:blipFill>
          <a:blip r:embed="rId3"/>
          <a:stretch/>
        </p:blipFill>
        <p:spPr>
          <a:xfrm>
            <a:off x="5796000" y="6048360"/>
            <a:ext cx="1297080" cy="8096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so02"/>
          <p:cNvPicPr/>
          <p:nvPr/>
        </p:nvPicPr>
        <p:blipFill>
          <a:blip r:embed="rId4"/>
          <a:stretch/>
        </p:blipFill>
        <p:spPr>
          <a:xfrm>
            <a:off x="7164360" y="5904000"/>
            <a:ext cx="120024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1982 aparece la versión 1.25, con la que se añade soporte para disquetes de doble car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1983,  versión 2.0, soporte a discos duros IBM de 10 MB, y la posibilidad de lectura-escritura de disquetes de 5.25" con capacidad de 360Kb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n 1984, versión 3.0 se añade soporte para discos de alta densidad de 1,2MB y posibilidad de instalar un disco duro con un máximo de 32MB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n ese mismo año, versión 3.1 soporte para redes Microsoft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1987,  versión 3.3 con soporte para floppy disk de 3,5", y discos duros mayores de 32 MB. 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1993, Versión 6.0  antivirus básico (MSAV), un desfragmentador (DEFRAG), un administrador de memoria (MEMMAKER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1997 Windows 95 OSR2, MS-DOS 7.00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c6c6c"/>
                </a:solidFill>
                <a:latin typeface="Trebuchet MS"/>
              </a:rPr>
              <a:t>La versión del MS-DOS 7.0 es la final. Permite particiones FAT32, 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7"/>
          <p:cNvSpPr/>
          <p:nvPr/>
        </p:nvSpPr>
        <p:spPr>
          <a:xfrm>
            <a:off x="1600200" y="3505320"/>
            <a:ext cx="1600200" cy="99036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pl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8"/>
          <p:cNvSpPr/>
          <p:nvPr/>
        </p:nvSpPr>
        <p:spPr>
          <a:xfrm>
            <a:off x="3657600" y="3505320"/>
            <a:ext cx="1523880" cy="91440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ces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5791320" y="3505320"/>
            <a:ext cx="1523880" cy="83808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terp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1600200" y="4876920"/>
            <a:ext cx="5715000" cy="45720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1"/>
          <p:cNvSpPr/>
          <p:nvPr/>
        </p:nvSpPr>
        <p:spPr>
          <a:xfrm>
            <a:off x="1676520" y="5715000"/>
            <a:ext cx="5638680" cy="45720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ardware (Hard Disk, Floopy, Printer, Keyb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7"/>
          <p:cNvSpPr/>
          <p:nvPr/>
        </p:nvSpPr>
        <p:spPr>
          <a:xfrm>
            <a:off x="2517120" y="495288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stema Operativo MS-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21"/>
          <p:cNvSpPr/>
          <p:nvPr/>
        </p:nvSpPr>
        <p:spPr>
          <a:xfrm>
            <a:off x="4191120" y="5257800"/>
            <a:ext cx="485640" cy="533520"/>
          </a:xfrm>
          <a:prstGeom prst="upDownArrow">
            <a:avLst>
              <a:gd name="adj1" fmla="val 50000"/>
              <a:gd name="adj2" fmla="val 2187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2057400" y="4419720"/>
            <a:ext cx="485640" cy="533160"/>
          </a:xfrm>
          <a:prstGeom prst="upDownArrow">
            <a:avLst>
              <a:gd name="adj1" fmla="val 50000"/>
              <a:gd name="adj2" fmla="val 21855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3"/>
          <p:cNvSpPr/>
          <p:nvPr/>
        </p:nvSpPr>
        <p:spPr>
          <a:xfrm>
            <a:off x="4114800" y="4419720"/>
            <a:ext cx="485640" cy="533160"/>
          </a:xfrm>
          <a:prstGeom prst="upDownArrow">
            <a:avLst>
              <a:gd name="adj1" fmla="val 50000"/>
              <a:gd name="adj2" fmla="val 21855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4"/>
          <p:cNvSpPr/>
          <p:nvPr/>
        </p:nvSpPr>
        <p:spPr>
          <a:xfrm>
            <a:off x="6324480" y="4343400"/>
            <a:ext cx="486000" cy="533520"/>
          </a:xfrm>
          <a:prstGeom prst="upDownArrow">
            <a:avLst>
              <a:gd name="adj1" fmla="val 50000"/>
              <a:gd name="adj2" fmla="val 21854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AutoShape 2" descr=""/>
          <p:cNvPicPr/>
          <p:nvPr/>
        </p:nvPicPr>
        <p:blipFill>
          <a:blip r:embed="rId1"/>
          <a:stretch/>
        </p:blipFill>
        <p:spPr>
          <a:xfrm>
            <a:off x="517680" y="755640"/>
            <a:ext cx="8175600" cy="115884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l MS-DOS tiene una estructura de tipo de árbol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Dentro de las unidades de discos A,B,C tenemos directori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Dentro de los directorios tenemos archivos (file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504" name="Picture 7" descr=""/>
          <p:cNvPicPr/>
          <p:nvPr/>
        </p:nvPicPr>
        <p:blipFill>
          <a:blip r:embed="rId2"/>
          <a:stretch/>
        </p:blipFill>
        <p:spPr>
          <a:xfrm>
            <a:off x="4761000" y="2809800"/>
            <a:ext cx="37702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AutoShap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El MS-DOS tiene unos 100 comando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ara poder ejecutarlos necesitamos tres archivos (files) principal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6c6c6c"/>
                </a:solidFill>
                <a:latin typeface="Trebuchet MS"/>
              </a:rPr>
              <a:t>IBMBIOS.COM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6c6c6c"/>
                </a:solidFill>
                <a:latin typeface="Trebuchet MS"/>
              </a:rPr>
              <a:t>IBMDOS.COM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6c6c6c"/>
                </a:solidFill>
                <a:latin typeface="Trebuchet MS"/>
              </a:rPr>
              <a:t>COMMAND.COM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AutoShap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IBMBIOS.COM se encarga de las comunicaciones de entrada y salida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IBMDOS.COM es el centro de los servicios de la computadora, se conoce también como kerne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COMMAND.COM carga y permite ejecutar todos los comando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AutoShap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699320" cy="115092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</a:rPr>
              <a:t>La ROM-BIOS.- Programas de gestión de entrada y salida entre el Sistema Operativo y los dispositivos básicos de  la computadora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</a:rPr>
              <a:t>- La IO.SYS.- Son un conjunto de instrucciones para la transferencia de entrada/salida desde periféricos a memoria. Prepara el sistema en el arranque y contiene drivers de dispositivo residentes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</a:rPr>
              <a:t>- MSDOS.SYS.- Es el kernel de MS-DOS, en que figuran instrucciones para control de los disquetes. Es un programa que gestiona los archivos, directorios, memoria y entornos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</a:rPr>
              <a:t>- DBLSPACE.BIN.- Es el controlador del Kernel del compresor del disco duro que sirve para aumentar la capacidad de almacenamiento del disco, disponible a partir de la versión 6 del MS-DOS. Este controlador se ocupa de toda la compresión y descompresión de ficheros y se puede trasladar desde la memoria convencional a la memoria superior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</a:rPr>
              <a:t>- COMMAND.COM.- Es el intérprete de comandos, mediante los cuales el usuario se comunica con el ordenador, a través del prompt \&gt;. Interpreta los comandos tecleados y contiene los comandos internos de MS-DOS que no se visualizan en el directorio del sistema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Cada disco tiene al menos un directorio: el  directorio raíz o” </a:t>
            </a: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root”</a:t>
            </a: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l directorio root puede contener un gran numero de otros directorios y archivo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Un directorio que esta dentro de otro directorio es llamado subdirectorio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Subdirectorios pueden contener un gran numeros de archivo y directorio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sta estructura tiene se parece a la estructura de un árbol y  se llama estructura jerárquica "hierarchical".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AutoShape 2" descr=""/>
          <p:cNvPicPr/>
          <p:nvPr/>
        </p:nvPicPr>
        <p:blipFill>
          <a:blip r:embed="rId1"/>
          <a:stretch/>
        </p:blipFill>
        <p:spPr>
          <a:xfrm>
            <a:off x="560520" y="755640"/>
            <a:ext cx="81327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15" name="Organization Chart 2"/>
          <p:cNvGrpSpPr/>
          <p:nvPr/>
        </p:nvGrpSpPr>
        <p:grpSpPr>
          <a:xfrm>
            <a:off x="1730520" y="3286800"/>
            <a:ext cx="6060960" cy="3104280"/>
            <a:chOff x="1730520" y="3286800"/>
            <a:chExt cx="6060960" cy="3104280"/>
          </a:xfrm>
        </p:grpSpPr>
        <p:cxnSp>
          <p:nvCxnSpPr>
            <p:cNvPr id="516" name="_s1028"/>
            <p:cNvCxnSpPr>
              <a:stCxn id="517" idx="1"/>
              <a:endCxn id="518" idx="2"/>
            </p:cNvCxnSpPr>
            <p:nvPr/>
          </p:nvCxnSpPr>
          <p:spPr>
            <a:xfrm rot="10800000">
              <a:off x="2760120" y="5316480"/>
              <a:ext cx="229320" cy="89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9" name="_s1029"/>
            <p:cNvCxnSpPr>
              <a:stCxn id="520" idx="1"/>
              <a:endCxn id="518" idx="2"/>
            </p:cNvCxnSpPr>
            <p:nvPr/>
          </p:nvCxnSpPr>
          <p:spPr>
            <a:xfrm rot="10800000">
              <a:off x="2760120" y="5316480"/>
              <a:ext cx="229320" cy="357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1" name="_s1030"/>
            <p:cNvCxnSpPr>
              <a:stCxn id="522" idx="0"/>
              <a:endCxn id="523" idx="2"/>
            </p:cNvCxnSpPr>
            <p:nvPr/>
          </p:nvCxnSpPr>
          <p:spPr>
            <a:xfrm flipV="1" rot="16200000">
              <a:off x="4387680" y="4095000"/>
              <a:ext cx="179640" cy="1145520"/>
            </a:xfrm>
            <a:prstGeom prst="bentConnector3">
              <a:avLst>
                <a:gd name="adj1" fmla="val 493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4" name="_s1031"/>
            <p:cNvCxnSpPr>
              <a:stCxn id="518" idx="0"/>
              <a:endCxn id="523" idx="2"/>
            </p:cNvCxnSpPr>
            <p:nvPr/>
          </p:nvCxnSpPr>
          <p:spPr>
            <a:xfrm flipH="1" flipV="1" rot="5400000">
              <a:off x="3243240" y="4095360"/>
              <a:ext cx="179640" cy="1145160"/>
            </a:xfrm>
            <a:prstGeom prst="bentConnector3">
              <a:avLst>
                <a:gd name="adj1" fmla="val 493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5" name="_s1032"/>
            <p:cNvCxnSpPr>
              <a:stCxn id="526" idx="0"/>
              <a:endCxn id="527" idx="2"/>
            </p:cNvCxnSpPr>
            <p:nvPr/>
          </p:nvCxnSpPr>
          <p:spPr>
            <a:xfrm flipV="1" rot="16200000">
              <a:off x="5843160" y="2758320"/>
              <a:ext cx="179640" cy="2345040"/>
            </a:xfrm>
            <a:prstGeom prst="bentConnector3">
              <a:avLst>
                <a:gd name="adj1" fmla="val 493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8" name="_s1033"/>
            <p:cNvCxnSpPr>
              <a:stCxn id="529" idx="0"/>
              <a:endCxn id="527" idx="2"/>
            </p:cNvCxnSpPr>
            <p:nvPr/>
          </p:nvCxnSpPr>
          <p:spPr>
            <a:xfrm flipV="1" rot="16200000">
              <a:off x="5043240" y="3558240"/>
              <a:ext cx="179640" cy="745200"/>
            </a:xfrm>
            <a:prstGeom prst="bentConnector3">
              <a:avLst>
                <a:gd name="adj1" fmla="val 493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0" name="_s1034"/>
            <p:cNvCxnSpPr>
              <a:stCxn id="523" idx="0"/>
              <a:endCxn id="527" idx="2"/>
            </p:cNvCxnSpPr>
            <p:nvPr/>
          </p:nvCxnSpPr>
          <p:spPr>
            <a:xfrm flipH="1" flipV="1" rot="5400000">
              <a:off x="4243320" y="3502800"/>
              <a:ext cx="179640" cy="856440"/>
            </a:xfrm>
            <a:prstGeom prst="bentConnector3">
              <a:avLst>
                <a:gd name="adj1" fmla="val 493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27" name="_s1035"/>
            <p:cNvSpPr/>
            <p:nvPr/>
          </p:nvSpPr>
          <p:spPr>
            <a:xfrm>
              <a:off x="4075200" y="3286800"/>
              <a:ext cx="1371600" cy="55512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C:\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_s1036"/>
            <p:cNvSpPr/>
            <p:nvPr/>
          </p:nvSpPr>
          <p:spPr>
            <a:xfrm>
              <a:off x="3219480" y="4021200"/>
              <a:ext cx="1371600" cy="55764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T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C:\tareas\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_s1037"/>
            <p:cNvSpPr/>
            <p:nvPr/>
          </p:nvSpPr>
          <p:spPr>
            <a:xfrm>
              <a:off x="4819680" y="4021200"/>
              <a:ext cx="1371600" cy="55764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Fo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C:\fotos\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_s1038"/>
            <p:cNvSpPr/>
            <p:nvPr/>
          </p:nvSpPr>
          <p:spPr>
            <a:xfrm>
              <a:off x="6419880" y="4021200"/>
              <a:ext cx="1371600" cy="55764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Apu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C:\apu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_s1039"/>
            <p:cNvSpPr/>
            <p:nvPr/>
          </p:nvSpPr>
          <p:spPr>
            <a:xfrm>
              <a:off x="1730520" y="4758120"/>
              <a:ext cx="2060640" cy="55728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Ing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C:\tareas\ingles\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_s1040"/>
            <p:cNvSpPr/>
            <p:nvPr/>
          </p:nvSpPr>
          <p:spPr>
            <a:xfrm>
              <a:off x="4019760" y="4758120"/>
              <a:ext cx="2060280" cy="55728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Españ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C:\tareas\españo\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_s1041"/>
            <p:cNvSpPr/>
            <p:nvPr/>
          </p:nvSpPr>
          <p:spPr>
            <a:xfrm>
              <a:off x="2989440" y="5495040"/>
              <a:ext cx="1371600" cy="35820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Tarea1.t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_s1042"/>
            <p:cNvSpPr/>
            <p:nvPr/>
          </p:nvSpPr>
          <p:spPr>
            <a:xfrm>
              <a:off x="2989440" y="6032880"/>
              <a:ext cx="1371600" cy="35820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240" rIns="7524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Tarea2.t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Administración de Proces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Un proceso  puede verse como un programa que se encuentra en ejecució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Una tarea en lotes es un proceso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Un programa de usuario de tiempo compartido es un proceso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415" name="Picture 4" descr="so"/>
          <p:cNvPicPr/>
          <p:nvPr/>
        </p:nvPicPr>
        <p:blipFill>
          <a:blip r:embed="rId2"/>
          <a:stretch/>
        </p:blipFill>
        <p:spPr>
          <a:xfrm>
            <a:off x="1332000" y="5157720"/>
            <a:ext cx="4392360" cy="8096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s01"/>
          <p:cNvPicPr/>
          <p:nvPr/>
        </p:nvPicPr>
        <p:blipFill>
          <a:blip r:embed="rId3"/>
          <a:stretch/>
        </p:blipFill>
        <p:spPr>
          <a:xfrm>
            <a:off x="5796000" y="5157720"/>
            <a:ext cx="1297080" cy="809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so02"/>
          <p:cNvPicPr/>
          <p:nvPr/>
        </p:nvPicPr>
        <p:blipFill>
          <a:blip r:embed="rId4"/>
          <a:stretch/>
        </p:blipFill>
        <p:spPr>
          <a:xfrm>
            <a:off x="7164360" y="5013360"/>
            <a:ext cx="12002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AutoShap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589880" cy="11509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n DOS , la root se simboliza por backslash inmediatamente después de la letra del drive:</a:t>
            </a:r>
            <a:br>
              <a:rPr sz="2000"/>
            </a:b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A:\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 or </a:t>
            </a: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C:\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  serian los directorios root del drive A o drive C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Los nombres de los directorios cuando son usados en comandos tienen que ser diferenciados por el backslas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c6c6c"/>
                </a:solidFill>
                <a:latin typeface="Trebuchet MS"/>
              </a:rPr>
              <a:t>C:\tareas\español\tarea1.htm</a:t>
            </a:r>
            <a:br>
              <a:rPr sz="1800"/>
            </a:br>
            <a:r>
              <a:rPr b="1" lang="es-MX" sz="1800" spc="-1" strike="noStrike">
                <a:solidFill>
                  <a:srgbClr val="6c6c6c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l nombre completo incluyendo la letra del drive y todos los directorios para localizar un archivo es llamado el “path”. </a:t>
            </a:r>
            <a:br>
              <a:rPr sz="2000"/>
            </a:b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c:\tareas\español\unidad1\vocales.dot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AutoShap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589880" cy="115092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Nombres de directorios especiales: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 Es el símbolo de directorio actua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rebuchet MS"/>
              </a:rPr>
              <a:t>..</a:t>
            </a: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 Es el símbolo del directorio padre.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rebuchet MS"/>
              </a:rPr>
              <a:t>C:\tareas\español\tarea1.htm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rebuchet MS"/>
              </a:rPr>
              <a:t>el padre de español es tareas porque español esta dentro de tarea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rebuchet MS"/>
              </a:rPr>
              <a:t>\</a:t>
            </a: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 es el símbolo del directorio raíz ” root"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DOS archivos están limitados por varias regla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El nombre de un archivo consite de dos partes separadas por un punto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Nombre  Extensió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tarea.tx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El nombre no puede tener mas de 8 caracter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AutoShap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Extensión. Las extensiones son opcionales pero se recomienda usarla porque son muy útil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ueden tener de 1 a 3 caracter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Las extensiones puede proveer información del tipo de archivo: de texto .txt de word .do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El nombre del archivo y la extension seimpre tiene que ser separada por un punt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AutoShap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DOS no diferencia entre letras mayusculas y letras minuscula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c6c6c"/>
                </a:solidFill>
                <a:latin typeface="Trebuchet MS"/>
              </a:rPr>
              <a:t>TAREA1.TXT es lo mismo que tAreA1.tXt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Se pueden combinar letras y números en cualquier orden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Alguno caracteres especiales son valid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~ ` ' ! @ # $ % ^ &amp; ( ) _ - {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Otro caracteres no son validos para nombr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c6c6c"/>
                </a:solidFill>
                <a:latin typeface="Trebuchet MS"/>
              </a:rPr>
              <a:t>* + = | \ [ ] : ; " &lt; , &gt; ? /</a:t>
            </a:r>
            <a:r>
              <a:rPr b="0" lang="es-MX" sz="1800" spc="-1" strike="noStrike">
                <a:solidFill>
                  <a:srgbClr val="6c6c6c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Administración de Proces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Un proceso necesita de ciertos recursos para ejecutar su tare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Tiempo de CPU, memoria, archivos, dispositivos E/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Para inicializar un proceso, éste puede requerir de datos de entrad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420" name="Picture 4" descr="so"/>
          <p:cNvPicPr/>
          <p:nvPr/>
        </p:nvPicPr>
        <p:blipFill>
          <a:blip r:embed="rId2"/>
          <a:stretch/>
        </p:blipFill>
        <p:spPr>
          <a:xfrm>
            <a:off x="1332000" y="5157720"/>
            <a:ext cx="4392360" cy="809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s01"/>
          <p:cNvPicPr/>
          <p:nvPr/>
        </p:nvPicPr>
        <p:blipFill>
          <a:blip r:embed="rId3"/>
          <a:stretch/>
        </p:blipFill>
        <p:spPr>
          <a:xfrm>
            <a:off x="5796000" y="5157720"/>
            <a:ext cx="1297080" cy="8096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so02"/>
          <p:cNvPicPr/>
          <p:nvPr/>
        </p:nvPicPr>
        <p:blipFill>
          <a:blip r:embed="rId4"/>
          <a:stretch/>
        </p:blipFill>
        <p:spPr>
          <a:xfrm>
            <a:off x="7164360" y="5013360"/>
            <a:ext cx="12002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Administración de Proces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Un programa por sí mismo no es un proceso, un programa es una entidad pasiv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Un proceso es una entidad activa, con un program counter especificando la próxima instrucción a ejecutar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La ejecución de un proceso debe de progresar secuencialment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Es común tener un proceso que se divide en diferentes secuencias de ejecució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Administración de Proces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Un proceso es la unidad de trabajo del sistem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El sistema operativo es responsable de ejecutar las siguientes instrucciones con respecto a la administración de proceso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lnSpc>
                <a:spcPct val="9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Creación y borrado de procesos de usuario y sistem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9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Suspensión o terminación de proces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9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27" name="Picture 4" descr="so"/>
          <p:cNvPicPr/>
          <p:nvPr/>
        </p:nvPicPr>
        <p:blipFill>
          <a:blip r:embed="rId2"/>
          <a:stretch/>
        </p:blipFill>
        <p:spPr>
          <a:xfrm>
            <a:off x="1332000" y="5805360"/>
            <a:ext cx="4392360" cy="809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s01"/>
          <p:cNvPicPr/>
          <p:nvPr/>
        </p:nvPicPr>
        <p:blipFill>
          <a:blip r:embed="rId3"/>
          <a:stretch/>
        </p:blipFill>
        <p:spPr>
          <a:xfrm>
            <a:off x="5796000" y="5805360"/>
            <a:ext cx="1297080" cy="8096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so02"/>
          <p:cNvPicPr/>
          <p:nvPr/>
        </p:nvPicPr>
        <p:blipFill>
          <a:blip r:embed="rId4"/>
          <a:stretch/>
        </p:blipFill>
        <p:spPr>
          <a:xfrm>
            <a:off x="7164360" y="5661000"/>
            <a:ext cx="12002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Administración de proces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Proveer mecanismos para sincronización de proces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Proveer de mecanismos de comunicación de proces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Proveer de mecanismos para el manejo de bloque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Administración de Memoria Princip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La memoria principal es un arreglo grande de palabras o byt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Cada palabra o byte tiene su propia direcció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La memoria principal es un repositorio de datos rápidamente accesibles, y compartidos por el CPU y los dispositivos de E/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Es el almacenamiento que puede acceder el CPU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06:00:29Z</dcterms:created>
  <dc:creator>ROSSMON S.A.</dc:creator>
  <dc:description/>
  <dc:language>en-US</dc:language>
  <cp:lastModifiedBy>Rossy</cp:lastModifiedBy>
  <dcterms:modified xsi:type="dcterms:W3CDTF">2011-05-31T16:47:22Z</dcterms:modified>
  <cp:revision>5</cp:revision>
  <dc:subject/>
  <dc:title>Algunos Sistemas Operativos</dc:title>
</cp:coreProperties>
</file>